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F32-8A66-440D-BE7E-E6CF0431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A48-C50B-4D7C-8660-176BB9BE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42C-6D34-4080-A563-A26B6D98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5DC-B10C-4ABE-8BD1-B09F7E1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907-59FB-44FE-9CC0-B7BA88C7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554-A430-4B4A-8698-868EFA4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1A4-D904-4D60-B4A3-5E4D5E8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547-49E5-47A9-8500-F0265372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609120"/>
            <a:ext cx="533412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239-0A7C-4AE4-BF66-4116CA2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28A-5784-47BD-8C87-07F4931D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583-6B90-4843-A690-39170797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A8F-51E8-4C94-AF70-64873683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20F2-5800-473B-B5D8-7DD222722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ashion Art Background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93432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Engravers MT"/>
              </a:rPr>
              <a:t>The</a:t>
            </a:r>
            <a:r>
              <a:rPr b="1" lang="en-US" sz="6000" spc="-1" strike="noStrike">
                <a:solidFill>
                  <a:srgbClr val="ff3399"/>
                </a:solidFill>
                <a:latin typeface="Engravers MT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3399"/>
                </a:solidFill>
                <a:latin typeface="Engravers MT"/>
              </a:rPr>
              <a:t>Art </a:t>
            </a:r>
            <a:br>
              <a:rPr sz="6000"/>
            </a:br>
            <a:r>
              <a:rPr b="1" lang="en-US" sz="4000" spc="-1" strike="noStrike">
                <a:solidFill>
                  <a:srgbClr val="ff3399"/>
                </a:solidFill>
                <a:latin typeface="Engravers MT"/>
              </a:rPr>
              <a:t>of</a:t>
            </a:r>
            <a:r>
              <a:rPr b="1" lang="en-US" sz="4800" spc="-1" strike="noStrike">
                <a:solidFill>
                  <a:srgbClr val="ff3399"/>
                </a:solidFill>
                <a:latin typeface="Engravers MT"/>
              </a:rPr>
              <a:t> </a:t>
            </a:r>
            <a:r>
              <a:rPr b="1" lang="en-US" sz="8000" spc="-1" strike="noStrike">
                <a:solidFill>
                  <a:srgbClr val="ff3399"/>
                </a:solidFill>
                <a:latin typeface="Engravers MT"/>
              </a:rPr>
              <a:t>Fashion</a:t>
            </a:r>
            <a:endParaRPr b="0" lang="en-US" sz="8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886200" y="1600200"/>
            <a:ext cx="6553080" cy="228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-76320" y="5486400"/>
            <a:ext cx="6553440" cy="228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urved Lines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omantic, Fragi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sual, Feminine, Graceful, S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 attention lo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creases, emphasizes, reinforces rounded soft-body curves, counter straight lines and angular body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 pattern, necklines, collars, yokelines, seamlines, bows, lapels, sleeves, ruffles, skirts, gathers, trims,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1950-petticoat, and corset to cinch waist and push out breasts"/>
          <p:cNvPicPr/>
          <p:nvPr/>
        </p:nvPicPr>
        <p:blipFill>
          <a:blip r:embed="rId2"/>
          <a:stretch/>
        </p:blipFill>
        <p:spPr>
          <a:xfrm>
            <a:off x="228600" y="0"/>
            <a:ext cx="3949560" cy="58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002 furs, feathers, and leathers"/>
          <p:cNvPicPr/>
          <p:nvPr/>
        </p:nvPicPr>
        <p:blipFill>
          <a:blip r:embed="rId3"/>
          <a:stretch/>
        </p:blipFill>
        <p:spPr>
          <a:xfrm>
            <a:off x="3362400" y="-76320"/>
            <a:ext cx="2733480" cy="670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2002 patchwork"/>
          <p:cNvPicPr/>
          <p:nvPr/>
        </p:nvPicPr>
        <p:blipFill>
          <a:blip r:embed="rId4"/>
          <a:stretch/>
        </p:blipFill>
        <p:spPr>
          <a:xfrm>
            <a:off x="6324480" y="195120"/>
            <a:ext cx="253044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Line Direction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that the line falls affects the design, message and illusion dras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Vertic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, strong, dignified, stiff, business-like, stately, conservative, grandious, majestic,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emphasizes, reinforces length, height, narrowness, thinness– slimming, counters horizont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v-necklines, pointed collars, narrow lapels, narrow panels or gores, fabric insets, lengthwise grainline, vertical stripes, darts, tucks, pleats, folds, crease, zippers, row of buttons, pockets, ties, neckties, long sleeves, high he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wjd083_fi"/>
          <p:cNvPicPr/>
          <p:nvPr/>
        </p:nvPicPr>
        <p:blipFill>
          <a:blip r:embed="rId2"/>
          <a:stretch/>
        </p:blipFill>
        <p:spPr>
          <a:xfrm>
            <a:off x="5821200" y="0"/>
            <a:ext cx="3322800" cy="563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wjj051_fi"/>
          <p:cNvPicPr/>
          <p:nvPr/>
        </p:nvPicPr>
        <p:blipFill>
          <a:blip r:embed="rId3"/>
          <a:stretch/>
        </p:blipFill>
        <p:spPr>
          <a:xfrm>
            <a:off x="228600" y="0"/>
            <a:ext cx="3413160" cy="579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wd-250_fi"/>
          <p:cNvPicPr/>
          <p:nvPr/>
        </p:nvPicPr>
        <p:blipFill>
          <a:blip r:embed="rId4"/>
          <a:stretch/>
        </p:blipFill>
        <p:spPr>
          <a:xfrm>
            <a:off x="3200400" y="685800"/>
            <a:ext cx="3068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Horizont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ful, stable, calm, 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a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uiet, serene, in repose, lethar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hasizes, reinforces 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lk, shortness, counters vertical lines, when placed high appears taller, when placed low appears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klines, flat collars, bow ties, yoke lines, horizontal stripes, belts, cuffs, waistline, sashes, patch/flap pockets, wide-set double-breasted closure, strap shoes, platform shoes, wide-brimmed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wjd062_fi"/>
          <p:cNvPicPr/>
          <p:nvPr/>
        </p:nvPicPr>
        <p:blipFill>
          <a:blip r:embed="rId2"/>
          <a:stretch/>
        </p:blipFill>
        <p:spPr>
          <a:xfrm>
            <a:off x="6400800" y="0"/>
            <a:ext cx="300816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wwd038_fi"/>
          <p:cNvPicPr/>
          <p:nvPr/>
        </p:nvPicPr>
        <p:blipFill>
          <a:blip r:embed="rId3"/>
          <a:stretch/>
        </p:blipFill>
        <p:spPr>
          <a:xfrm>
            <a:off x="152280" y="0"/>
            <a:ext cx="3052800" cy="51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wwd056_fi"/>
          <p:cNvPicPr/>
          <p:nvPr/>
        </p:nvPicPr>
        <p:blipFill>
          <a:blip r:embed="rId4"/>
          <a:stretch/>
        </p:blipFill>
        <p:spPr>
          <a:xfrm>
            <a:off x="4408560" y="762120"/>
            <a:ext cx="2754360" cy="467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jt062_fi"/>
          <p:cNvPicPr/>
          <p:nvPr/>
        </p:nvPicPr>
        <p:blipFill>
          <a:blip r:embed="rId5"/>
          <a:stretch/>
        </p:blipFill>
        <p:spPr>
          <a:xfrm>
            <a:off x="2362320" y="2590920"/>
            <a:ext cx="2514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Diagon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76680" y="236196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v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ability, excitement, interesting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stless, sophisticated, in motion, vi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emphasiz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inforces the direction of the domina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unters vertical and horizont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-shaped neckline, open collar, lapels, raglan sleeve seamlines, French darts, closures, surplice closure, row of buttons, fabric inset, diagonal stripes, gores, herringbone pattern, zigzag pattern, A-line skirt, flared skirt or pants, shoe laces crisscross st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wd-234_fi"/>
          <p:cNvPicPr/>
          <p:nvPr/>
        </p:nvPicPr>
        <p:blipFill>
          <a:blip r:embed="rId2"/>
          <a:stretch/>
        </p:blipFill>
        <p:spPr>
          <a:xfrm>
            <a:off x="2490840" y="1828800"/>
            <a:ext cx="2843280" cy="482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wg-125_fi"/>
          <p:cNvPicPr/>
          <p:nvPr/>
        </p:nvPicPr>
        <p:blipFill>
          <a:blip r:embed="rId3"/>
          <a:stretch/>
        </p:blipFill>
        <p:spPr>
          <a:xfrm>
            <a:off x="5008680" y="990720"/>
            <a:ext cx="3068640" cy="520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wjd061_fi"/>
          <p:cNvPicPr/>
          <p:nvPr/>
        </p:nvPicPr>
        <p:blipFill>
          <a:blip r:embed="rId4"/>
          <a:stretch/>
        </p:blipFill>
        <p:spPr>
          <a:xfrm>
            <a:off x="76320" y="0"/>
            <a:ext cx="3052800" cy="518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wjd074_fi"/>
          <p:cNvPicPr/>
          <p:nvPr/>
        </p:nvPicPr>
        <p:blipFill>
          <a:blip r:embed="rId5"/>
          <a:stretch/>
        </p:blipFill>
        <p:spPr>
          <a:xfrm>
            <a:off x="6664320" y="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Portfolio Assignment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3 portfolio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Line, Curved Line, Diagon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he following in the para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ines are found in the pi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re the lines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lines structural or decora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illusion and message associated with the described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is clothing made up of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nciples that make up appealing art apply to good fashion design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ashion has a combination of the elements and principles of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62360" y="609480"/>
            <a:ext cx="335268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urved line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ample</a:t>
            </a:r>
            <a:br>
              <a:rPr sz="40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urved Line Portfolio page"/>
          <p:cNvPicPr/>
          <p:nvPr/>
        </p:nvPicPr>
        <p:blipFill>
          <a:blip r:embed="rId2"/>
          <a:stretch/>
        </p:blipFill>
        <p:spPr>
          <a:xfrm>
            <a:off x="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is good and bad about the following portfolio pages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10080" y="68580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Engravers MT"/>
              </a:rPr>
              <a:t>Diagonal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Line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ample</a:t>
            </a:r>
            <a:br>
              <a:rPr sz="40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line - diagonal"/>
          <p:cNvPicPr/>
          <p:nvPr/>
        </p:nvPicPr>
        <p:blipFill>
          <a:blip r:embed="rId2"/>
          <a:srcRect l="1478" t="0" r="954" b="7526"/>
          <a:stretch/>
        </p:blipFill>
        <p:spPr>
          <a:xfrm>
            <a:off x="76320" y="0"/>
            <a:ext cx="526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86400" y="609120"/>
            <a:ext cx="358128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Engravers MT"/>
              </a:rPr>
              <a:t>Straight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line </a:t>
            </a: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sample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line - straight"/>
          <p:cNvPicPr/>
          <p:nvPr/>
        </p:nvPicPr>
        <p:blipFill>
          <a:blip r:embed="rId2"/>
          <a:srcRect l="1464" t="0" r="0" b="7445"/>
          <a:stretch/>
        </p:blipFill>
        <p:spPr>
          <a:xfrm>
            <a:off x="152280" y="0"/>
            <a:ext cx="53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62160" y="152280"/>
            <a:ext cx="5181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paragraph using this picture as an example of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… Find the criteria in the photo and take notes about YOUR photo NOT the notes from the PowerPoin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m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notes to create the paragrap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thesaurus if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ashion paragraph example"/>
          <p:cNvPicPr/>
          <p:nvPr/>
        </p:nvPicPr>
        <p:blipFill>
          <a:blip r:embed="rId1"/>
          <a:stretch/>
        </p:blipFill>
        <p:spPr>
          <a:xfrm>
            <a:off x="0" y="0"/>
            <a:ext cx="385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Object 4"/>
          <p:cNvGraphicFramePr/>
          <p:nvPr/>
        </p:nvGraphicFramePr>
        <p:xfrm>
          <a:off x="1868400" y="0"/>
          <a:ext cx="514188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0"/>
                    <a:ext cx="51418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Elements of Design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50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4280" y="6858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lines appear in this dress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pic>
        <p:nvPicPr>
          <p:cNvPr id="53" name="Picture 2053" descr="01b"/>
          <p:cNvPicPr/>
          <p:nvPr/>
        </p:nvPicPr>
        <p:blipFill>
          <a:blip r:embed="rId2"/>
          <a:stretch/>
        </p:blipFill>
        <p:spPr>
          <a:xfrm>
            <a:off x="228600" y="0"/>
            <a:ext cx="4414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Engravers MT"/>
              </a:rPr>
              <a:t>Line</a:t>
            </a:r>
            <a:endParaRPr b="0" lang="en-US" sz="8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an elongated mark that connects two or more points.  Line encloses and divides space, creating shapes and forms.  Seam lines divide and enclose space on a ga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Effects of lin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reate optical illu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7180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971800" y="4267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971800" y="4800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71800" y="5334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2971800" y="4114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2971800" y="4267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586728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 flipH="1" flipV="1">
            <a:off x="5638320" y="4114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5867280" y="48006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7"/>
          <p:cNvSpPr/>
          <p:nvPr/>
        </p:nvSpPr>
        <p:spPr>
          <a:xfrm flipH="1" flipV="1">
            <a:off x="2666520" y="4647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571464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2819160" y="4800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58672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2971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41911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1911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42670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4191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28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– lines required to maintain the structure of the garment; for example, s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rative – lines created by the designer purely for decoration; for example, a printed-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9" descr="wjd004_fi"/>
          <p:cNvPicPr/>
          <p:nvPr/>
        </p:nvPicPr>
        <p:blipFill>
          <a:blip r:embed="rId2"/>
          <a:stretch/>
        </p:blipFill>
        <p:spPr>
          <a:xfrm>
            <a:off x="6781680" y="2819520"/>
            <a:ext cx="17510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30" descr="wjt052_fi"/>
          <p:cNvPicPr/>
          <p:nvPr/>
        </p:nvPicPr>
        <p:blipFill>
          <a:blip r:embed="rId3"/>
          <a:stretch/>
        </p:blipFill>
        <p:spPr>
          <a:xfrm>
            <a:off x="4800600" y="1066680"/>
            <a:ext cx="1720800" cy="2921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32"/>
          <p:cNvSpPr/>
          <p:nvPr/>
        </p:nvSpPr>
        <p:spPr>
          <a:xfrm>
            <a:off x="335268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480060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Dec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34"/>
          <p:cNvSpPr/>
          <p:nvPr/>
        </p:nvSpPr>
        <p:spPr>
          <a:xfrm>
            <a:off x="70102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traight Lines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ce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igid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ard, Formal, Masculine, Crisp, Stiff, Se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hasizes, reinforces body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gles, counters curved lines and rounded body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, Necklines, Collars, Lapels, Seamlines, Darts, Tucks, Pleats, Folds, Stripes, Shapes, Silhou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8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30" descr="2002 men's fashion for women"/>
          <p:cNvPicPr/>
          <p:nvPr/>
        </p:nvPicPr>
        <p:blipFill>
          <a:blip r:embed="rId2"/>
          <a:stretch/>
        </p:blipFill>
        <p:spPr>
          <a:xfrm>
            <a:off x="343080" y="0"/>
            <a:ext cx="270504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31" descr="2002 black"/>
          <p:cNvPicPr/>
          <p:nvPr/>
        </p:nvPicPr>
        <p:blipFill>
          <a:blip r:embed="rId3"/>
          <a:stretch/>
        </p:blipFill>
        <p:spPr>
          <a:xfrm>
            <a:off x="3222720" y="0"/>
            <a:ext cx="27972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2" descr="2002 thin belts"/>
          <p:cNvPicPr/>
          <p:nvPr/>
        </p:nvPicPr>
        <p:blipFill>
          <a:blip r:embed="rId4"/>
          <a:stretch/>
        </p:blipFill>
        <p:spPr>
          <a:xfrm>
            <a:off x="6135840" y="0"/>
            <a:ext cx="2703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5:39:11Z</dcterms:created>
  <dc:creator>Becky Parkinson</dc:creator>
  <dc:description/>
  <dc:language>en-US</dc:language>
  <cp:lastModifiedBy>dist 10</cp:lastModifiedBy>
  <dcterms:modified xsi:type="dcterms:W3CDTF">2009-02-02T03:43:37Z</dcterms:modified>
  <cp:revision>60</cp:revision>
  <dc:subject/>
  <dc:title>The  Art  of Fashion</dc:title>
</cp:coreProperties>
</file>